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1D5-09E4-46EE-A1E2-735DC8DF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AFD-A43B-4022-9FF5-2EB7AE6B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A6E-FF9A-4A30-857C-33AC5D5A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B39-8E05-4CB1-BD1F-03874E8D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E283-4D42-4877-800D-9C03BA77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0B7B-409E-4BB4-B771-BEE5A5C5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6B76-3C2E-489B-8BF7-C99D9E35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4312-DCDD-49E9-9ED0-7CDB2765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F549-E7B0-404A-8C94-8C49CFF2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AB7C-4204-4F59-9BAF-11A15F7E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AF98-30CC-4B4B-9892-ED2D9CFF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32F-367E-4408-90C6-F7AF4DDB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2375-446E-42D9-BCF5-8B3C6C26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C007-A130-4C3D-8737-E4EB90FE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DF18-675C-4BE6-9B3C-4CE53D56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90D1-B915-4139-AF4E-21A6FBB8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589A-45DB-4526-947A-7549B08C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6F6-1F0B-447C-BF1A-275F0BA2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BA8-94D3-40EA-8347-7305F4FB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B8F-8052-4738-945A-A69A459F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219-7863-4955-97AA-DA13643E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32E-A40D-4529-9D63-0EAED231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C46-E389-482C-A528-0708DB05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4B9-1943-4F03-B2BB-EBE12C90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D3CF-A81D-4AF7-97EF-4179185274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4C1C-B4A7-4C7E-893D-44ACE817DD8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FC’s propos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Yu 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yung R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ong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l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uan 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owl of rice contains 15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g, a person eats about 3 bowls per day which makes it 3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30g per person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300 ±30g x200±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ita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www.uswitch.com/water/ how-much-water-use/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blog.naver.com/leemail07?Redirect=Log&amp;logNo=40034391615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www.querycat.com/faq/ f4c59fee94b30846229276c79121f335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wiki.answers.com/Q/How_many_ml_of_water_does_a_person_need_a_day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www.hc-sc.gc.ca/fn-an/ food-guide-aliment/basics-base/quantit-eng.php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Seong Min's personal interview with his math tutor. 30 Nov.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30 Nov. 2008 &lt;http://www.data360.org/ dsg.aspx?Data_Set_Group_Id=75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thematics: water and grain storage facilty proj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30 Nov. 2008 &lt;www.snopes.com/medical/myths/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glasses.asp&gt;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5640" y="11430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the past few weeks KFC had being aiming to design, and price, a water and grain storage facility for a village that has fifty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torage facility must be able to contain a two week supply of water and g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walls and roof of the facility will be made out of metal sheet that costs $14 per m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acility must be placed on a 20cm thick concrete floor. The concrete costs $640 per m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must make every effort to keep the cost as low a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many people’s in a family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ad shown that the average population of a family is around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(two adults and two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50x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1=200±50 people are included in thi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1752480"/>
            <a:ext cx="5676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ater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need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er (35 li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ilet (8 liters) do they have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king (.5 li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hing (3li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86280" y="914400"/>
            <a:ext cx="4914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rain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3:35:03Z</dcterms:created>
  <dc:creator>Yuan ke</dc:creator>
  <dc:description/>
  <dc:language>en-US</dc:language>
  <cp:lastModifiedBy>a</cp:lastModifiedBy>
  <dcterms:modified xsi:type="dcterms:W3CDTF">2008-11-30T11:42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